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3EA-E222-4C49-9581-5D3A14A4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136-7F07-45AA-A3E2-3BFC396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5D75-1B41-45E3-9DE5-202615E1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82C-73E9-4A6B-A1AE-3A5A7420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D87-AC96-4780-8E8C-0D9C626E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BA9-3729-4EB1-AF62-9BCF4F0D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F3F-360E-441B-BF13-4041C7A1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097-C7DB-451A-8830-475751A5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1A6-5D76-4D94-B596-569229F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4C3-C05C-49F3-8F43-363B441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3ECC-A8D6-4D7F-BB23-6F19D27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06B-C1DF-42F5-89D6-16A20A86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63BD-9F9C-4C05-B5DF-96DAF4456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hifflet 3"/>
          <p:cNvPicPr/>
          <p:nvPr/>
        </p:nvPicPr>
        <p:blipFill>
          <a:blip r:embed="rId1"/>
          <a:stretch/>
        </p:blipFill>
        <p:spPr>
          <a:xfrm>
            <a:off x="329724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hifflet 4"/>
          <p:cNvPicPr/>
          <p:nvPr/>
        </p:nvPicPr>
        <p:blipFill>
          <a:blip r:embed="rId2"/>
          <a:stretch/>
        </p:blipFill>
        <p:spPr>
          <a:xfrm>
            <a:off x="4737240" y="189000"/>
            <a:ext cx="127620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Whifflet Park"/>
          <p:cNvPicPr/>
          <p:nvPr/>
        </p:nvPicPr>
        <p:blipFill>
          <a:blip r:embed="rId3"/>
          <a:stretch/>
        </p:blipFill>
        <p:spPr>
          <a:xfrm>
            <a:off x="8048520" y="40464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Lanarkshire Ex Pres 1"/>
          <p:cNvPicPr/>
          <p:nvPr/>
        </p:nvPicPr>
        <p:blipFill>
          <a:blip r:embed="rId4"/>
          <a:stretch/>
        </p:blipFill>
        <p:spPr>
          <a:xfrm>
            <a:off x="272880" y="19162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anarkshire Ex Pres 25th"/>
          <p:cNvPicPr/>
          <p:nvPr/>
        </p:nvPicPr>
        <p:blipFill>
          <a:blip r:embed="rId5"/>
          <a:stretch/>
        </p:blipFill>
        <p:spPr>
          <a:xfrm>
            <a:off x="1784520" y="170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Lanarkshire Ex Pres Millennium"/>
          <p:cNvPicPr/>
          <p:nvPr/>
        </p:nvPicPr>
        <p:blipFill>
          <a:blip r:embed="rId6"/>
          <a:stretch/>
        </p:blipFill>
        <p:spPr>
          <a:xfrm>
            <a:off x="3513240" y="1989000"/>
            <a:ext cx="877680" cy="1033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FFLET                                    WHIFFLET                                   WHIFFLET                                  WHIFFLET                                  WHIFFLET  100TH                        WHIFFLET  PARK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08924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Whifflet 2"/>
          <p:cNvPicPr/>
          <p:nvPr/>
        </p:nvPicPr>
        <p:blipFill>
          <a:blip r:embed="rId7"/>
          <a:stretch/>
        </p:blipFill>
        <p:spPr>
          <a:xfrm>
            <a:off x="1784520" y="260280"/>
            <a:ext cx="120636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NARKSHIRE  EX.  PRESIDENTS        EX.  PRES. 25TH                      EX  PR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3" descr="Whifflet 1"/>
          <p:cNvPicPr/>
          <p:nvPr/>
        </p:nvPicPr>
        <p:blipFill>
          <a:blip r:embed="rId8"/>
          <a:stretch/>
        </p:blipFill>
        <p:spPr>
          <a:xfrm>
            <a:off x="200160" y="1159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Whifflet 100th.jpg"/>
          <p:cNvPicPr/>
          <p:nvPr/>
        </p:nvPicPr>
        <p:blipFill>
          <a:blip r:embed="rId9"/>
          <a:stretch/>
        </p:blipFill>
        <p:spPr>
          <a:xfrm>
            <a:off x="6465960" y="333360"/>
            <a:ext cx="11192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1:54Z</dcterms:created>
  <dc:creator>JY</dc:creator>
  <dc:description/>
  <dc:language>en-US</dc:language>
  <cp:lastModifiedBy>John</cp:lastModifiedBy>
  <dcterms:modified xsi:type="dcterms:W3CDTF">2011-11-19T19:37:55Z</dcterms:modified>
  <cp:revision>4</cp:revision>
  <dc:subject/>
  <dc:title>Slide 1</dc:title>
</cp:coreProperties>
</file>